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2319-3A0C-4CAF-A287-5D66692D7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089B-EEB9-4FB9-AD53-A0FA99BA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B1FB50-E837-4C4B-8ADE-D501C65E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B71B66-3A4A-4048-B77B-4CD33D93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1A4182-F945-4D48-8512-6779399A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7B969-B1C4-4EA6-8054-999FAB0A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C9EA50-D2D9-46D7-B70F-35A039EE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DCB139-899F-4A47-B61B-385FCAE4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127C9C-9E1C-44E0-A911-4B3125D4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D0FAB9-5722-4A13-A0A3-ECA3F8079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960668-2A12-4B34-85C7-FA718873E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769AD7-D303-4E83-A43A-8A3E19EFB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455A-CF91-481E-BB54-AE265BA22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2F1FAE-C3C8-45C3-BD4D-02234A67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0BF937-B439-485B-8DE9-3E176708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762F10-1ECA-4DCE-AC16-30D55F65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3FD4FD-D674-453C-BA13-0A591476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00145B-80A0-4241-941A-2BF33955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4CC3E8-33CA-4D3C-AF48-8E6C9A35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3DE901-A744-4F8A-AAF1-A7573077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208564-B33B-4DFF-913E-C03FCC39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16F8EC-C462-46D8-8A35-C044169C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1AB2C0-C131-4CD5-A2BF-07843FFDD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BF26-01E7-4FC0-95B3-6AB9251D7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5D85A5-998B-4554-BD19-25B4D08F7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4CEFFF-5599-4FB6-9C91-9EB660658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403B5-4626-4C20-B3B0-7E6CC7BF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17633A-2E85-4299-B97C-78FE9DF7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10743-6535-42A7-BA40-2ACDB398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DD87D-E0AC-4336-AAB8-0CE0D3EF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1A1381-1F5B-4484-9C48-90600A24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29D2E-E1FE-4FE2-9A59-A9A4C547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CAC21-9DE4-4F25-8CEE-D9EB9653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84B7F-1BC6-4D71-B70B-9E6384B6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FE98-CA5B-47AD-901B-F2C30051A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907ED-6518-4CD4-A823-18D9C27F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90901-C420-4C63-B1F2-07B5A3EF4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8713C-3289-409E-9302-6314AA4B0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3C4D63-5C2A-422C-B92A-5A41BD31E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C205C7-8723-46C9-BE72-0B283FAA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504160-963B-4763-B1C8-6126B2F9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569EE3-DCA8-4079-A5F0-F46D3FE2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60E91D-55A4-43F3-95B5-1E1188A9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2ADE33-4CCF-4587-A5AB-A4A4E71E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28DB2B-CA10-4EA0-94CD-4547275A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EBB7-9290-499A-B56F-27E68058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25BDBF-CB1F-48AA-AA44-3A5945B5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06A68E-5BCF-4466-B26F-070504FB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24F001-BC58-47C7-83B9-F8BC42FD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0C45B2-603F-4F71-A3C7-47B1BB34E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5EEDC0-BC94-469F-8BA2-D34351F4E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DF3803-0CE5-4182-8514-946DF6266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A8DC43-0200-45CD-8F80-38EFA47E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A16958-E93F-4603-A497-DEF01166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EEE9D4-EFC9-4C0B-BD3E-9192F34C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5F7C17-C3E5-4BD0-8BB0-88F77790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5C86-5ABC-434F-82AC-84C50A2B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F232E0-127C-4823-A94C-6E985067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50836A-85AF-4FE7-9631-2FF0F5F8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F8850E-FD02-4BDA-93E8-B2662C65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FF9811-6D62-4647-8A82-529F3AF0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06F95B-E0F6-4E64-9642-42EFAAB3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CF7CA0-8751-4EBD-BB24-520D32BC1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06A868-728D-4BA8-B488-02E989986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FC97ED-6978-44CE-AF6D-C6B9CFA45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CD374D-817F-41C9-9AD1-23F81597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D8DCCA-3CD4-4F5C-BDF4-1C441055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6E3F-1400-4923-B254-A7DFF767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19D1C8-AAB8-404A-8FEC-6760BBF6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45D26B-CEBB-4163-8E6F-4E458A57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8A91C4-C35D-430F-B87B-1C2334FC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2A506A-7E2B-4178-A3BF-98142D7F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EBA31D-4F21-4A41-8D5A-3E3D38D3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4C351A-05A4-4A5F-9EAA-56F40DB1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8E30A5-F6D2-488D-B665-E0567387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F898A8-9DEC-4165-B665-4C81B8695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6ED647-0367-4F77-BCBE-874A5D3F6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E040E2-E3F5-4996-AF14-D7C6F309C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B088-9033-4D84-BE31-2DA6BBAB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A2FC30-45CA-47E8-A011-F8506C3C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178E04-34FF-4CC7-BD32-BB662C64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16AFE1-E978-4BE7-A720-C2C8E117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BB7229-35E5-4A95-87B4-B43E5F7F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8EBD7F-A1F2-47BD-963A-F59573BAA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0D7D22-3ADE-43F9-BB85-2197159F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D6485A-8D2E-4CCB-9524-DC8C54AA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9FA361-1803-4F1C-A7E0-28731020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E0C760-79F7-4217-A303-EE3D6FFD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7AF371-1865-4E9C-A581-E61CA76B2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14EE-4D59-4454-90A5-545EF56D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7F58DC-89ED-4337-AFC6-9A20DB5B9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9F766F-4953-456C-AFD7-893A2870F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499A26-B65D-4DE8-BA56-A50C4DCE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2CF399-63CB-47FC-815B-153723A7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0A910C-8ABF-4132-85E0-6775004B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0A2526-1570-4254-9239-283A6B80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807F00-2219-45B9-A033-6D206CFB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B5AD08-FA36-451E-B19A-58BBED23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64BCD2-1E8E-42ED-8A45-432D9C99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02D6B4-3C68-4911-A41D-06981F3E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61AE-C446-491A-9744-1E55A9B9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24C6B2-BF1C-4ABB-9508-FD4DB0BB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49A998-5E23-458E-9F87-F18DEF7C1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2B9DCE-DB0F-48DE-8957-A0E5DEAD7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670321-FD5D-4A08-9E01-03A38D8C6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52313C-F799-4107-A0F6-1AA260F6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69DF31-FCD4-48ED-97EC-757A3E69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07F660-08F0-4C1C-9255-8AD5F420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7BD8C3-3300-4658-B4C2-FD8E68B9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640C32-E551-4018-80CC-CDB6B6ED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D37DFF-D69F-4856-9A2F-5157AE3A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F939-4A82-4999-8E0B-34B256A4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8A78-00F2-480F-95B1-380EF2F8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AA509D-EF38-468B-87DF-95A6EE91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C4A7D7-3400-4D2A-935D-FBE6A6C0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9E301B-C956-48AB-AF5B-4B98E656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AB93EE-C1BC-4CE8-9EB0-B2E1B0B7F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3AD09B-F233-4352-9D4D-407BAFF14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93EB09-FC83-41A5-8FDF-9F554FB33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66080A-EAEE-4E82-B067-3BE10350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47E64E-8440-4029-BBC8-44F5C921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7BAAF2-5994-443A-9478-94E8A546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BC2BA3-9198-4786-9B0D-54A903D2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D5840-E75A-43E7-B460-DE96E3AA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450515-929E-4B96-A421-AD2048B2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7F55F8-EC81-4D51-83E1-F76113B1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E902B2-6A44-4FC6-9AB6-739D3D36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9F1A44-F2A0-4863-8D59-30071206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80AE6A-564C-4737-BCE0-1FCDD068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23294A-6FBD-4BD1-8A13-C9E7C206F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41CB5E-1B04-4D2A-A160-8293C1CCB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F96BB1-8429-42F5-B707-730A6CC10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92EB38-E6CA-4279-8EB8-22DD1CCE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AFCC4E-5EC6-4727-B1C7-E16D1C0B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CCAA-06F9-4FEB-A1CC-D4A6BACA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5F76F2-392D-4398-A974-5FF808BA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5DF64B-8792-4A9E-B921-DD0840F1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918F05-5817-4D46-9F1B-F0CF5F52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907ECC-6A94-40FF-A04B-A4E5B2D6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572841-7B7A-4BD8-9146-CB08D4EA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0182CD-DE29-4074-AF73-B61226B8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326560-435F-479D-B5AB-EFEECF72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B42676-4E34-40B2-92CA-08CB5F192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09A6CF-5D3F-4B8B-A8EF-44156670F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9B3731-1BF2-47D5-9E90-9DCC06405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6CEAC-3822-496B-AF12-1B2AB849A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F5A1A7-CFC2-4F5B-83B6-88879774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030DA3-09EA-40F0-B12B-1C4EE149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130BBA-A76A-4223-9AAF-487665C9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F4296E-6575-49D9-A8E0-E498E18F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996DCC-A248-415B-87F0-0CC5D9C6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1D5874-6A98-40F8-ADC7-1D1AB95A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FB8597-C2A3-42A7-A571-2D710C4F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4A49E6-A3AF-4391-8D4C-47E354B7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FC6A32-8CFA-4AA3-BED8-FCA6E4D5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8C66B1-CB24-4533-A61F-2B3548FE0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9EB4-8A5D-4E70-80EC-7B89F6663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29ABF8-A3BD-47D4-9AA4-175CC8D09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6724AD-6746-49E8-BF62-C4BEB0C2B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C03A72-3253-46D3-9DE9-6B2B4544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9E478B-3381-4344-ACE4-A38F3D33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270036-2620-4975-BC4F-EE6542E1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97C84E-CA9C-4C38-B096-248EF423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FF03C5-7CC4-4A9A-803D-68BEE306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64B746-7D4F-4129-A105-73638507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0B778D-904C-4A4F-9275-7BA3A88C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CFC660-5C2D-4D65-B45D-999768AC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B7246-BE9C-496B-BD15-0826E0DA3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C6EC28-FD42-4E3B-9888-337B6739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5814EC-7C30-4D96-BF39-35F3CCAEA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6C8630-38AD-468B-A67E-CFECA5590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169793-E3E9-48DB-8B03-E4F705F04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5D6836-79ED-4882-B1E0-F4316AE8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28FEAB-3D54-49D1-9561-2B3D7753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18B1D8-BE30-408A-B78F-2A598D6B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8771F2-E10B-4AAE-B0BE-B5E1A77D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498188-D66E-4B1F-9C0A-1371E874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15999C-E609-4EAC-A255-3FD5ACD0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7F964-F021-4B54-8261-C911C448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804597-31CB-4BC3-9C5A-7E92EC81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8FA448-1949-49E0-89D3-51DE9C2C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2915DE-C78E-4A06-8DE4-18412350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25530B-58CF-4104-B9C0-106047ACB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4C7B56-E48F-4923-B2ED-ACB9DCA10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D9ECCA-F763-4EDE-A0AD-0E33E2E76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53D2CB-A766-4842-9010-439B4EEF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E7F3F0-9C30-40F7-833C-5CA643D8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725333-CF82-4FD4-82C6-F10FF617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FB9EF6-4FB4-4BC6-9A20-266A5783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68245-3E49-4AD3-B5F0-C246884B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EA8C86-0B2F-48F1-B943-679780A3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D4D70D-B894-47F7-BCD3-66FD2F97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F6DE3D-6BFF-44A7-8A9B-4A43EEDF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677F1E-DE0D-47D6-AC7C-4B07CE14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99622F-CE57-44D6-861B-DC9101A9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BE1BDE-CDF5-4D0F-A18F-E911A4D1A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7244F2-2B19-46EE-8383-007063F3A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CCB0A-AACB-461C-9CC2-3B140FD4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2825C-9618-4413-9F16-5AC2FE46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9DEC-DC6E-49B5-8969-A9277BBE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B666B-5FE0-4224-8C9B-C2FBD5D3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41D2C-3443-4D9A-AD54-F0FFCCCE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F7849-ABD3-4B14-ACE2-FF6C0CC5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E5AFB-1F3B-4990-B594-96788C95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E622C-5049-4259-9D9D-8C70CE6D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597DF-A0A9-4075-882E-BCB468D80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16157-E1F7-49B5-844F-03E6E1B14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468E8-434B-415C-9BA8-61029431B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C5187-25C7-4C40-8AF9-710C7D1D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AA8EA-EAD1-4C66-8BC6-DBDFAA72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49A9-618C-47B2-BB89-2747213E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D1E50-A62B-4765-B8BE-3526B949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8ED39-0477-4C44-8C50-2088D6C9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2D49D-3307-47AB-8B90-5BF92344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80CE6-6450-4CBE-BF93-C1F20852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57ABA-D2D1-4D4F-9F97-6A22E97D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B9CB1-56BC-4706-91F5-F2ADBB7B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132A6-85F5-4D1E-926C-DAE491CA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360AB-560C-4BA0-B65A-201B1988F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5B4A6-C99E-4CC3-87CD-D55E33D15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972A1-ADAD-4D1F-A249-D374CA495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7FF5-7AFE-4394-814E-7DFB1D46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572CC-3BF0-427B-A003-A019D130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1DD97-8B4A-4439-AE1E-E4034240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1D943-8CDB-4C49-A3B8-3ECDACE6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7D172-A60D-4CF0-BB4A-8AE6B6A1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68093-0019-4B7E-B624-7C4BC8DC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84812-D2BD-47B5-B370-DA696B9D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9AB7A-D80B-43C3-B8FA-69362BFE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0877C-E854-4F65-AE12-4A12EBF6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B8898-DB3E-4CF8-A840-5F9FFA86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3596D-CDCD-409B-AB68-84A53B721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8468-44B6-44DC-A97B-7B57AB16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F965B-6CE1-484E-B205-0B6C73369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4DF40-D344-414E-8D38-5FFD37D9E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39206-5391-42AE-AD96-07C6DC91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ADEBC-E020-428E-8B0C-52A5A304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466FB-2AFE-4CC2-881E-D12DC01B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550A7-15FF-4A9B-86AD-A7B35E10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393BE-0FE2-41F7-9783-48D04413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E9032-F99E-40C2-A2C9-CFA3FE26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51013-A220-4F67-A0EF-BBA4F7E3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218F5-AC1A-41C6-B803-0E6D4580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265B-1A22-46D7-BF67-A845FB8A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47804-1A4E-49C2-BEB2-EB50A95B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D56B4-5A23-487A-BDBE-AF12C3AF9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ACC57-182B-458B-ABF2-D9145E8FB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6C4CA-2996-456E-B450-4C4126FC7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0CB1E-481B-4FE9-93A8-D5EF5ABD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62014-2438-4610-A8C9-A13146B1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5474D-E7E8-4703-AE8F-362ED0B5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6BF5A-011C-49BE-AC5A-6300A0E3E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58CB5-18A3-40BA-A0E7-641B9692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D289B-AE38-48E0-BF26-6836279D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978F-128F-438C-871F-E985493C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ED1E5-E6DE-406D-AFC9-6770082B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1128A-2C95-4095-A154-6701F52A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ADF14-D0D2-46EE-B4F8-602842E5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5398E-45B0-4D51-BA8F-DF763AA13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6F726-AF27-41AD-864B-1DA374BF8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CF8DE-692E-4176-83A2-D327FFC3B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FD95E-2AA4-47C0-9807-11296343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F0217-5521-4469-A9D9-0A9D155C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C4DA7-E4CE-4B53-94B9-EC79CFA3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A0B16-42CF-4448-AB7D-7F0A29CD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D164-5A50-477D-9433-ED45EF05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91930-D8AE-407E-8616-BBF6E155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1E5A1-C9A3-499A-86DC-E47E61B5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000DB-CF95-4779-878C-9DE7580D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C9AEC-AD39-47A6-93EC-887336A7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12540-098D-45FE-8240-DB5959DC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A4212-4487-4665-A306-5B0FBC016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AF0C7-5460-4626-A2E5-12B42D70B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927B87-7A39-414F-AC5A-DCB023789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F21E89-202A-4A54-948F-D97CAF5D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274823-C0BF-48E2-B240-D14C0669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7C17-C4CC-4AB9-A404-48A044DB8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F655-FC2C-45F1-9197-A93D7834A3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7922-1F18-4E9C-AEB2-03AF4DF03C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2C1D-B85E-434D-A786-5A32CA6CA1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57BA-2680-4E54-9F3C-DFABE98692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6A66-C471-4339-81B1-C6FC9FA1A7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7AAE-AE84-4602-9EDB-2D0564EDE9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BC90-71C3-4868-AC4B-06035B1E06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20F0-F6B4-4B83-9F8F-024A508A32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09C0-0BF1-4112-8945-83CAFA913B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1F11-443E-4892-B046-50ED83D327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18AF-394A-4572-9CE4-BA8F6A76F6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3A5A-0C21-4358-B0FD-73A848DC11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C165-C220-4DFE-B3B7-C43333AB12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2526-D0C4-48D6-9653-7205C873B5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DCEB-E6C2-4BE0-B8F3-B697A63B4F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CC78-ABF4-4EEB-BF7E-6477ADB306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5C8F-7614-48CB-9578-87619063E1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5A94-444B-4AF5-AFBB-B7618440AE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2AE4-B960-483F-BBFF-BC0C6099BD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1A49-8A3B-480B-BFDE-6A95D7824C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03B3-9BE1-4E89-9C86-7685124F2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3768-C525-45F1-9C9C-F5BFEA2D6A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D986-047B-4E62-ABD4-2ADDA524E8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7AB4-FFF4-42CA-B341-53F5F001FB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73D3-FA03-4D0C-8B7E-6F4795DA3E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2A32-D2F3-4229-AE13-A18105A861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BE69-EB27-45F3-BF8A-B24E6F816D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FFBB-A81C-41DC-8EC3-527206C30B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0911-F2EB-4580-B57C-EE99FA959B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632E-0B67-44F7-B504-CC93C6D3DE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67CF-9EFD-4AEB-8B4C-D9C7418563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01B1-19E2-4DD1-A215-0315EE2AF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8C4E-7AD7-44DA-BCC9-BA0DE8DC6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ED9A-5B77-4FE7-B777-64939D97F0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6372-8C80-44F3-AD19-E465C23075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200D-E0AD-43FA-9B12-1427FE78E4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22DA-6BFA-42F9-B135-8CF82A3153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A592-0A3B-4DF2-98A6-FCD4EBD808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A239-9723-4CA8-9B38-10938B7981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B45F-894E-49C5-B2C1-A9DFBF4FF6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4BD9-D42B-49E5-834B-4EE149C270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Picture 2" descr=""/>
          <p:cNvPicPr/>
          <p:nvPr/>
        </p:nvPicPr>
        <p:blipFill>
          <a:blip r:embed="rId1"/>
          <a:stretch/>
        </p:blipFill>
        <p:spPr>
          <a:xfrm>
            <a:off x="2916360" y="1844640"/>
            <a:ext cx="3085920" cy="60012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3" descr=""/>
          <p:cNvPicPr/>
          <p:nvPr/>
        </p:nvPicPr>
        <p:blipFill>
          <a:blip r:embed="rId2"/>
          <a:stretch/>
        </p:blipFill>
        <p:spPr>
          <a:xfrm>
            <a:off x="785880" y="3133800"/>
            <a:ext cx="75722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图片 1" descr=""/>
          <p:cNvPicPr/>
          <p:nvPr/>
        </p:nvPicPr>
        <p:blipFill>
          <a:blip r:embed="rId1"/>
          <a:stretch/>
        </p:blipFill>
        <p:spPr>
          <a:xfrm>
            <a:off x="385920" y="909720"/>
            <a:ext cx="8370720" cy="571320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4" descr=""/>
          <p:cNvPicPr/>
          <p:nvPr/>
        </p:nvPicPr>
        <p:blipFill>
          <a:blip r:embed="rId2"/>
          <a:stretch/>
        </p:blipFill>
        <p:spPr>
          <a:xfrm>
            <a:off x="1928880" y="4143240"/>
            <a:ext cx="857160" cy="40500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4" descr=""/>
          <p:cNvPicPr/>
          <p:nvPr/>
        </p:nvPicPr>
        <p:blipFill>
          <a:blip r:embed="rId3"/>
          <a:stretch/>
        </p:blipFill>
        <p:spPr>
          <a:xfrm>
            <a:off x="1714680" y="4654440"/>
            <a:ext cx="857160" cy="40500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4" descr=""/>
          <p:cNvPicPr/>
          <p:nvPr/>
        </p:nvPicPr>
        <p:blipFill>
          <a:blip r:embed="rId4"/>
          <a:stretch/>
        </p:blipFill>
        <p:spPr>
          <a:xfrm>
            <a:off x="1643040" y="5143680"/>
            <a:ext cx="85716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图片 1" descr=""/>
          <p:cNvPicPr/>
          <p:nvPr/>
        </p:nvPicPr>
        <p:blipFill>
          <a:blip r:embed="rId1"/>
          <a:stretch/>
        </p:blipFill>
        <p:spPr>
          <a:xfrm>
            <a:off x="343080" y="1012680"/>
            <a:ext cx="8458200" cy="555156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4" descr=""/>
          <p:cNvPicPr/>
          <p:nvPr/>
        </p:nvPicPr>
        <p:blipFill>
          <a:blip r:embed="rId2"/>
          <a:stretch/>
        </p:blipFill>
        <p:spPr>
          <a:xfrm>
            <a:off x="1571760" y="928800"/>
            <a:ext cx="857160" cy="40464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4" descr=""/>
          <p:cNvPicPr/>
          <p:nvPr/>
        </p:nvPicPr>
        <p:blipFill>
          <a:blip r:embed="rId3"/>
          <a:stretch/>
        </p:blipFill>
        <p:spPr>
          <a:xfrm>
            <a:off x="2500200" y="2476440"/>
            <a:ext cx="857520" cy="40320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4" descr=""/>
          <p:cNvPicPr/>
          <p:nvPr/>
        </p:nvPicPr>
        <p:blipFill>
          <a:blip r:embed="rId4"/>
          <a:stretch/>
        </p:blipFill>
        <p:spPr>
          <a:xfrm>
            <a:off x="5072040" y="4024440"/>
            <a:ext cx="3214800" cy="40464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4" descr=""/>
          <p:cNvPicPr/>
          <p:nvPr/>
        </p:nvPicPr>
        <p:blipFill>
          <a:blip r:embed="rId5"/>
          <a:stretch/>
        </p:blipFill>
        <p:spPr>
          <a:xfrm>
            <a:off x="2928960" y="4548240"/>
            <a:ext cx="5857920" cy="40320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4" descr=""/>
          <p:cNvPicPr/>
          <p:nvPr/>
        </p:nvPicPr>
        <p:blipFill>
          <a:blip r:embed="rId6"/>
          <a:stretch/>
        </p:blipFill>
        <p:spPr>
          <a:xfrm>
            <a:off x="1500120" y="5048280"/>
            <a:ext cx="857160" cy="40320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4" descr=""/>
          <p:cNvPicPr/>
          <p:nvPr/>
        </p:nvPicPr>
        <p:blipFill>
          <a:blip r:embed="rId7"/>
          <a:stretch/>
        </p:blipFill>
        <p:spPr>
          <a:xfrm>
            <a:off x="6715080" y="5572080"/>
            <a:ext cx="2000160" cy="40500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4" descr=""/>
          <p:cNvPicPr/>
          <p:nvPr/>
        </p:nvPicPr>
        <p:blipFill>
          <a:blip r:embed="rId8"/>
          <a:stretch/>
        </p:blipFill>
        <p:spPr>
          <a:xfrm>
            <a:off x="1643040" y="6072120"/>
            <a:ext cx="178596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2" name="图片 1" descr=""/>
          <p:cNvPicPr/>
          <p:nvPr/>
        </p:nvPicPr>
        <p:blipFill>
          <a:blip r:embed="rId1"/>
          <a:stretch/>
        </p:blipFill>
        <p:spPr>
          <a:xfrm>
            <a:off x="333360" y="920880"/>
            <a:ext cx="8477280" cy="564804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4" descr=""/>
          <p:cNvPicPr/>
          <p:nvPr/>
        </p:nvPicPr>
        <p:blipFill>
          <a:blip r:embed="rId2"/>
          <a:stretch/>
        </p:blipFill>
        <p:spPr>
          <a:xfrm>
            <a:off x="3857760" y="5572080"/>
            <a:ext cx="857160" cy="40500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4" descr=""/>
          <p:cNvPicPr/>
          <p:nvPr/>
        </p:nvPicPr>
        <p:blipFill>
          <a:blip r:embed="rId3"/>
          <a:stretch/>
        </p:blipFill>
        <p:spPr>
          <a:xfrm>
            <a:off x="6858000" y="6095880"/>
            <a:ext cx="142884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5" name="图片 2" descr=""/>
          <p:cNvPicPr/>
          <p:nvPr/>
        </p:nvPicPr>
        <p:blipFill>
          <a:blip r:embed="rId1"/>
          <a:stretch/>
        </p:blipFill>
        <p:spPr>
          <a:xfrm>
            <a:off x="252360" y="1062000"/>
            <a:ext cx="8637480" cy="473400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4" descr=""/>
          <p:cNvPicPr/>
          <p:nvPr/>
        </p:nvPicPr>
        <p:blipFill>
          <a:blip r:embed="rId2"/>
          <a:stretch/>
        </p:blipFill>
        <p:spPr>
          <a:xfrm>
            <a:off x="4357800" y="2154240"/>
            <a:ext cx="178596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7" name="图片 2" descr=""/>
          <p:cNvPicPr/>
          <p:nvPr/>
        </p:nvPicPr>
        <p:blipFill>
          <a:blip r:embed="rId1"/>
          <a:stretch/>
        </p:blipFill>
        <p:spPr>
          <a:xfrm>
            <a:off x="1044720" y="868320"/>
            <a:ext cx="7904160" cy="3208320"/>
          </a:xfrm>
          <a:prstGeom prst="rect">
            <a:avLst/>
          </a:prstGeom>
          <a:ln w="0">
            <a:noFill/>
          </a:ln>
        </p:spPr>
      </p:pic>
      <p:pic>
        <p:nvPicPr>
          <p:cNvPr id="1148" name="图片 3" descr=""/>
          <p:cNvPicPr/>
          <p:nvPr/>
        </p:nvPicPr>
        <p:blipFill>
          <a:blip r:embed="rId2"/>
          <a:stretch/>
        </p:blipFill>
        <p:spPr>
          <a:xfrm>
            <a:off x="431640" y="4170240"/>
            <a:ext cx="8466120" cy="243864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4" descr=""/>
          <p:cNvPicPr/>
          <p:nvPr/>
        </p:nvPicPr>
        <p:blipFill>
          <a:blip r:embed="rId3"/>
          <a:stretch/>
        </p:blipFill>
        <p:spPr>
          <a:xfrm>
            <a:off x="3071880" y="2571840"/>
            <a:ext cx="785880" cy="40464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4" descr=""/>
          <p:cNvPicPr/>
          <p:nvPr/>
        </p:nvPicPr>
        <p:blipFill>
          <a:blip r:embed="rId4"/>
          <a:stretch/>
        </p:blipFill>
        <p:spPr>
          <a:xfrm>
            <a:off x="5643720" y="3071880"/>
            <a:ext cx="857160" cy="40464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4" descr=""/>
          <p:cNvPicPr/>
          <p:nvPr/>
        </p:nvPicPr>
        <p:blipFill>
          <a:blip r:embed="rId5"/>
          <a:stretch/>
        </p:blipFill>
        <p:spPr>
          <a:xfrm>
            <a:off x="2000160" y="4071960"/>
            <a:ext cx="857520" cy="40464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4" descr=""/>
          <p:cNvPicPr/>
          <p:nvPr/>
        </p:nvPicPr>
        <p:blipFill>
          <a:blip r:embed="rId6"/>
          <a:stretch/>
        </p:blipFill>
        <p:spPr>
          <a:xfrm>
            <a:off x="3786120" y="5119560"/>
            <a:ext cx="85716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图片 1" descr=""/>
          <p:cNvPicPr/>
          <p:nvPr/>
        </p:nvPicPr>
        <p:blipFill>
          <a:blip r:embed="rId1"/>
          <a:stretch/>
        </p:blipFill>
        <p:spPr>
          <a:xfrm>
            <a:off x="1353960" y="797040"/>
            <a:ext cx="6599520" cy="59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4" name="图片 1" descr=""/>
          <p:cNvPicPr/>
          <p:nvPr/>
        </p:nvPicPr>
        <p:blipFill>
          <a:blip r:embed="rId1"/>
          <a:stretch/>
        </p:blipFill>
        <p:spPr>
          <a:xfrm>
            <a:off x="654120" y="1089000"/>
            <a:ext cx="7837560" cy="509436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4" descr=""/>
          <p:cNvPicPr/>
          <p:nvPr/>
        </p:nvPicPr>
        <p:blipFill>
          <a:blip r:embed="rId2"/>
          <a:stretch/>
        </p:blipFill>
        <p:spPr>
          <a:xfrm>
            <a:off x="1500120" y="2143080"/>
            <a:ext cx="4286160" cy="40500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4" descr=""/>
          <p:cNvPicPr/>
          <p:nvPr/>
        </p:nvPicPr>
        <p:blipFill>
          <a:blip r:embed="rId3"/>
          <a:stretch/>
        </p:blipFill>
        <p:spPr>
          <a:xfrm>
            <a:off x="7715160" y="2643120"/>
            <a:ext cx="857520" cy="40500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4" descr=""/>
          <p:cNvPicPr/>
          <p:nvPr/>
        </p:nvPicPr>
        <p:blipFill>
          <a:blip r:embed="rId4"/>
          <a:stretch/>
        </p:blipFill>
        <p:spPr>
          <a:xfrm>
            <a:off x="1143000" y="3143160"/>
            <a:ext cx="2214720" cy="405000"/>
          </a:xfrm>
          <a:prstGeom prst="rect">
            <a:avLst/>
          </a:prstGeom>
          <a:ln w="0">
            <a:noFill/>
          </a:ln>
        </p:spPr>
      </p:pic>
      <p:pic>
        <p:nvPicPr>
          <p:cNvPr id="1158" name="Picture 4" descr=""/>
          <p:cNvPicPr/>
          <p:nvPr/>
        </p:nvPicPr>
        <p:blipFill>
          <a:blip r:embed="rId5"/>
          <a:stretch/>
        </p:blipFill>
        <p:spPr>
          <a:xfrm>
            <a:off x="1500120" y="5214960"/>
            <a:ext cx="7000920" cy="404640"/>
          </a:xfrm>
          <a:prstGeom prst="rect">
            <a:avLst/>
          </a:prstGeom>
          <a:ln w="0">
            <a:noFill/>
          </a:ln>
        </p:spPr>
      </p:pic>
      <p:pic>
        <p:nvPicPr>
          <p:cNvPr id="1159" name="Picture 4" descr=""/>
          <p:cNvPicPr/>
          <p:nvPr/>
        </p:nvPicPr>
        <p:blipFill>
          <a:blip r:embed="rId6"/>
          <a:stretch/>
        </p:blipFill>
        <p:spPr>
          <a:xfrm>
            <a:off x="1143000" y="5715000"/>
            <a:ext cx="214308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0" name="图片 1" descr=""/>
          <p:cNvPicPr/>
          <p:nvPr/>
        </p:nvPicPr>
        <p:blipFill>
          <a:blip r:embed="rId1"/>
          <a:stretch/>
        </p:blipFill>
        <p:spPr>
          <a:xfrm>
            <a:off x="324000" y="977760"/>
            <a:ext cx="8496000" cy="5619960"/>
          </a:xfrm>
          <a:prstGeom prst="rect">
            <a:avLst/>
          </a:prstGeom>
          <a:ln w="0">
            <a:noFill/>
          </a:ln>
        </p:spPr>
      </p:pic>
      <p:pic>
        <p:nvPicPr>
          <p:cNvPr id="1161" name="Picture 4" descr=""/>
          <p:cNvPicPr/>
          <p:nvPr/>
        </p:nvPicPr>
        <p:blipFill>
          <a:blip r:embed="rId2"/>
          <a:stretch/>
        </p:blipFill>
        <p:spPr>
          <a:xfrm>
            <a:off x="285840" y="4071960"/>
            <a:ext cx="8715240" cy="404640"/>
          </a:xfrm>
          <a:prstGeom prst="rect">
            <a:avLst/>
          </a:prstGeom>
          <a:ln w="0">
            <a:noFill/>
          </a:ln>
        </p:spPr>
      </p:pic>
      <p:pic>
        <p:nvPicPr>
          <p:cNvPr id="1162" name="Picture 4" descr=""/>
          <p:cNvPicPr/>
          <p:nvPr/>
        </p:nvPicPr>
        <p:blipFill>
          <a:blip r:embed="rId3"/>
          <a:stretch/>
        </p:blipFill>
        <p:spPr>
          <a:xfrm>
            <a:off x="285840" y="4548240"/>
            <a:ext cx="8715240" cy="404640"/>
          </a:xfrm>
          <a:prstGeom prst="rect">
            <a:avLst/>
          </a:prstGeom>
          <a:ln w="0">
            <a:noFill/>
          </a:ln>
        </p:spPr>
      </p:pic>
      <p:pic>
        <p:nvPicPr>
          <p:cNvPr id="1163" name="Picture 4" descr=""/>
          <p:cNvPicPr/>
          <p:nvPr/>
        </p:nvPicPr>
        <p:blipFill>
          <a:blip r:embed="rId4"/>
          <a:stretch/>
        </p:blipFill>
        <p:spPr>
          <a:xfrm>
            <a:off x="285840" y="5095800"/>
            <a:ext cx="8715240" cy="405000"/>
          </a:xfrm>
          <a:prstGeom prst="rect">
            <a:avLst/>
          </a:prstGeom>
          <a:ln w="0">
            <a:noFill/>
          </a:ln>
        </p:spPr>
      </p:pic>
      <p:pic>
        <p:nvPicPr>
          <p:cNvPr id="1164" name="Picture 4" descr=""/>
          <p:cNvPicPr/>
          <p:nvPr/>
        </p:nvPicPr>
        <p:blipFill>
          <a:blip r:embed="rId5"/>
          <a:stretch/>
        </p:blipFill>
        <p:spPr>
          <a:xfrm>
            <a:off x="285840" y="5632560"/>
            <a:ext cx="871524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5" name="图片 1" descr=""/>
          <p:cNvPicPr/>
          <p:nvPr/>
        </p:nvPicPr>
        <p:blipFill>
          <a:blip r:embed="rId1"/>
          <a:stretch/>
        </p:blipFill>
        <p:spPr>
          <a:xfrm>
            <a:off x="552600" y="1409760"/>
            <a:ext cx="8038800" cy="4038480"/>
          </a:xfrm>
          <a:prstGeom prst="rect">
            <a:avLst/>
          </a:prstGeom>
          <a:ln w="0">
            <a:noFill/>
          </a:ln>
        </p:spPr>
      </p:pic>
      <p:pic>
        <p:nvPicPr>
          <p:cNvPr id="1166" name="Picture 4" descr=""/>
          <p:cNvPicPr/>
          <p:nvPr/>
        </p:nvPicPr>
        <p:blipFill>
          <a:blip r:embed="rId2"/>
          <a:stretch/>
        </p:blipFill>
        <p:spPr>
          <a:xfrm>
            <a:off x="285840" y="1476360"/>
            <a:ext cx="8715240" cy="7794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4" descr=""/>
          <p:cNvPicPr/>
          <p:nvPr/>
        </p:nvPicPr>
        <p:blipFill>
          <a:blip r:embed="rId3"/>
          <a:stretch/>
        </p:blipFill>
        <p:spPr>
          <a:xfrm>
            <a:off x="285840" y="2357280"/>
            <a:ext cx="8715240" cy="405000"/>
          </a:xfrm>
          <a:prstGeom prst="rect">
            <a:avLst/>
          </a:prstGeom>
          <a:ln w="0">
            <a:noFill/>
          </a:ln>
        </p:spPr>
      </p:pic>
      <p:pic>
        <p:nvPicPr>
          <p:cNvPr id="1168" name="Picture 4" descr=""/>
          <p:cNvPicPr/>
          <p:nvPr/>
        </p:nvPicPr>
        <p:blipFill>
          <a:blip r:embed="rId4"/>
          <a:stretch/>
        </p:blipFill>
        <p:spPr>
          <a:xfrm>
            <a:off x="285840" y="2868480"/>
            <a:ext cx="8715240" cy="40500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4" descr=""/>
          <p:cNvPicPr/>
          <p:nvPr/>
        </p:nvPicPr>
        <p:blipFill>
          <a:blip r:embed="rId5"/>
          <a:stretch/>
        </p:blipFill>
        <p:spPr>
          <a:xfrm>
            <a:off x="285840" y="3381480"/>
            <a:ext cx="8715240" cy="40464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4" descr=""/>
          <p:cNvPicPr/>
          <p:nvPr/>
        </p:nvPicPr>
        <p:blipFill>
          <a:blip r:embed="rId6"/>
          <a:stretch/>
        </p:blipFill>
        <p:spPr>
          <a:xfrm>
            <a:off x="285840" y="3881520"/>
            <a:ext cx="8715240" cy="40464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4" descr=""/>
          <p:cNvPicPr/>
          <p:nvPr/>
        </p:nvPicPr>
        <p:blipFill>
          <a:blip r:embed="rId7"/>
          <a:stretch/>
        </p:blipFill>
        <p:spPr>
          <a:xfrm>
            <a:off x="285840" y="4381560"/>
            <a:ext cx="8715240" cy="40464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4" descr=""/>
          <p:cNvPicPr/>
          <p:nvPr/>
        </p:nvPicPr>
        <p:blipFill>
          <a:blip r:embed="rId8"/>
          <a:stretch/>
        </p:blipFill>
        <p:spPr>
          <a:xfrm>
            <a:off x="285840" y="4881600"/>
            <a:ext cx="871524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1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图片 2" descr=""/>
          <p:cNvPicPr/>
          <p:nvPr/>
        </p:nvPicPr>
        <p:blipFill>
          <a:blip r:embed="rId1"/>
          <a:stretch/>
        </p:blipFill>
        <p:spPr>
          <a:xfrm>
            <a:off x="330120" y="949320"/>
            <a:ext cx="8485200" cy="559116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4" descr=""/>
          <p:cNvPicPr/>
          <p:nvPr/>
        </p:nvPicPr>
        <p:blipFill>
          <a:blip r:embed="rId2"/>
          <a:stretch/>
        </p:blipFill>
        <p:spPr>
          <a:xfrm>
            <a:off x="7929720" y="2500200"/>
            <a:ext cx="519120" cy="44316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4" descr=""/>
          <p:cNvPicPr/>
          <p:nvPr/>
        </p:nvPicPr>
        <p:blipFill>
          <a:blip r:embed="rId3"/>
          <a:stretch/>
        </p:blipFill>
        <p:spPr>
          <a:xfrm>
            <a:off x="7929720" y="4021200"/>
            <a:ext cx="51912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1" name="图片 2" descr=""/>
          <p:cNvPicPr/>
          <p:nvPr/>
        </p:nvPicPr>
        <p:blipFill>
          <a:blip r:embed="rId1"/>
          <a:stretch/>
        </p:blipFill>
        <p:spPr>
          <a:xfrm>
            <a:off x="320760" y="995400"/>
            <a:ext cx="8504280" cy="556272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4" descr=""/>
          <p:cNvPicPr/>
          <p:nvPr/>
        </p:nvPicPr>
        <p:blipFill>
          <a:blip r:embed="rId2"/>
          <a:stretch/>
        </p:blipFill>
        <p:spPr>
          <a:xfrm>
            <a:off x="7929720" y="2500200"/>
            <a:ext cx="519120" cy="44316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4" descr=""/>
          <p:cNvPicPr/>
          <p:nvPr/>
        </p:nvPicPr>
        <p:blipFill>
          <a:blip r:embed="rId3"/>
          <a:stretch/>
        </p:blipFill>
        <p:spPr>
          <a:xfrm>
            <a:off x="7905600" y="6058080"/>
            <a:ext cx="51912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4" name="图片 1" descr=""/>
          <p:cNvPicPr/>
          <p:nvPr/>
        </p:nvPicPr>
        <p:blipFill>
          <a:blip r:embed="rId1"/>
          <a:stretch/>
        </p:blipFill>
        <p:spPr>
          <a:xfrm>
            <a:off x="352440" y="1073160"/>
            <a:ext cx="8439120" cy="542916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4" descr=""/>
          <p:cNvPicPr/>
          <p:nvPr/>
        </p:nvPicPr>
        <p:blipFill>
          <a:blip r:embed="rId2"/>
          <a:stretch/>
        </p:blipFill>
        <p:spPr>
          <a:xfrm>
            <a:off x="7858080" y="3629160"/>
            <a:ext cx="51912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图片 1" descr=""/>
          <p:cNvPicPr/>
          <p:nvPr/>
        </p:nvPicPr>
        <p:blipFill>
          <a:blip r:embed="rId1"/>
          <a:stretch/>
        </p:blipFill>
        <p:spPr>
          <a:xfrm>
            <a:off x="393840" y="979560"/>
            <a:ext cx="8486640" cy="555156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4" descr=""/>
          <p:cNvPicPr/>
          <p:nvPr/>
        </p:nvPicPr>
        <p:blipFill>
          <a:blip r:embed="rId2"/>
          <a:stretch/>
        </p:blipFill>
        <p:spPr>
          <a:xfrm>
            <a:off x="7983360" y="1000080"/>
            <a:ext cx="519120" cy="44280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4" descr=""/>
          <p:cNvPicPr/>
          <p:nvPr/>
        </p:nvPicPr>
        <p:blipFill>
          <a:blip r:embed="rId3"/>
          <a:stretch/>
        </p:blipFill>
        <p:spPr>
          <a:xfrm>
            <a:off x="7983360" y="4021200"/>
            <a:ext cx="51912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9" name="图片 1" descr=""/>
          <p:cNvPicPr/>
          <p:nvPr/>
        </p:nvPicPr>
        <p:blipFill>
          <a:blip r:embed="rId1"/>
          <a:stretch/>
        </p:blipFill>
        <p:spPr>
          <a:xfrm>
            <a:off x="297000" y="719280"/>
            <a:ext cx="8418240" cy="428400"/>
          </a:xfrm>
          <a:prstGeom prst="rect">
            <a:avLst/>
          </a:prstGeom>
          <a:ln w="0">
            <a:noFill/>
          </a:ln>
        </p:spPr>
      </p:pic>
      <p:pic>
        <p:nvPicPr>
          <p:cNvPr id="1120" name="图片 2" descr=""/>
          <p:cNvPicPr/>
          <p:nvPr/>
        </p:nvPicPr>
        <p:blipFill>
          <a:blip r:embed="rId2"/>
          <a:stretch/>
        </p:blipFill>
        <p:spPr>
          <a:xfrm>
            <a:off x="776160" y="1219320"/>
            <a:ext cx="8047080" cy="556236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4" descr=""/>
          <p:cNvPicPr/>
          <p:nvPr/>
        </p:nvPicPr>
        <p:blipFill>
          <a:blip r:embed="rId3"/>
          <a:stretch/>
        </p:blipFill>
        <p:spPr>
          <a:xfrm>
            <a:off x="7972560" y="1214280"/>
            <a:ext cx="519120" cy="4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图片 1" descr=""/>
          <p:cNvPicPr/>
          <p:nvPr/>
        </p:nvPicPr>
        <p:blipFill>
          <a:blip r:embed="rId1"/>
          <a:stretch/>
        </p:blipFill>
        <p:spPr>
          <a:xfrm>
            <a:off x="428760" y="703440"/>
            <a:ext cx="8418240" cy="610524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4" descr=""/>
          <p:cNvPicPr/>
          <p:nvPr/>
        </p:nvPicPr>
        <p:blipFill>
          <a:blip r:embed="rId2"/>
          <a:stretch/>
        </p:blipFill>
        <p:spPr>
          <a:xfrm>
            <a:off x="7983360" y="3786120"/>
            <a:ext cx="519120" cy="4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4" name="图片 1" descr=""/>
          <p:cNvPicPr/>
          <p:nvPr/>
        </p:nvPicPr>
        <p:blipFill>
          <a:blip r:embed="rId1"/>
          <a:stretch/>
        </p:blipFill>
        <p:spPr>
          <a:xfrm>
            <a:off x="368280" y="1114560"/>
            <a:ext cx="8408880" cy="523872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4" descr=""/>
          <p:cNvPicPr/>
          <p:nvPr/>
        </p:nvPicPr>
        <p:blipFill>
          <a:blip r:embed="rId2"/>
          <a:stretch/>
        </p:blipFill>
        <p:spPr>
          <a:xfrm>
            <a:off x="4500720" y="2643120"/>
            <a:ext cx="519120" cy="4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图片 1" descr=""/>
          <p:cNvPicPr/>
          <p:nvPr/>
        </p:nvPicPr>
        <p:blipFill>
          <a:blip r:embed="rId1"/>
          <a:stretch/>
        </p:blipFill>
        <p:spPr>
          <a:xfrm>
            <a:off x="378000" y="858960"/>
            <a:ext cx="8389800" cy="577044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4" descr=""/>
          <p:cNvPicPr/>
          <p:nvPr/>
        </p:nvPicPr>
        <p:blipFill>
          <a:blip r:embed="rId2"/>
          <a:stretch/>
        </p:blipFill>
        <p:spPr>
          <a:xfrm>
            <a:off x="2857680" y="2405160"/>
            <a:ext cx="3214440" cy="44280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4" descr=""/>
          <p:cNvPicPr/>
          <p:nvPr/>
        </p:nvPicPr>
        <p:blipFill>
          <a:blip r:embed="rId3"/>
          <a:stretch/>
        </p:blipFill>
        <p:spPr>
          <a:xfrm>
            <a:off x="2786040" y="4000680"/>
            <a:ext cx="2143080" cy="4046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4" descr=""/>
          <p:cNvPicPr/>
          <p:nvPr/>
        </p:nvPicPr>
        <p:blipFill>
          <a:blip r:embed="rId4"/>
          <a:stretch/>
        </p:blipFill>
        <p:spPr>
          <a:xfrm>
            <a:off x="2786040" y="5572080"/>
            <a:ext cx="285768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4T03:46:40Z</dcterms:modified>
  <cp:revision>4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